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041-0738-42A9-8333-4CB560AD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835-82E4-4861-9837-A7FF5A79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3B3-A610-4442-A58B-4169B5D7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741-C1A1-424B-8BE4-ACED696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567-7B8B-4887-82FF-4201D9F4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A53-E2EF-4D01-B73E-000E3284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3BF-0490-482B-A004-5568808F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6DD-2D99-4575-9E83-68C05213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5E5-0264-4159-A858-22DD91C1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D48-906E-48F6-835D-61B139B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E73-1F9B-4F6E-86FE-1649528B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3DF-6501-48F5-B81A-DCE286F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C733-155F-4974-A309-96AEEA3B0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10-4   Neutralization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Base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676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ixing a solution of a strong acid containing hydronium ions with a solution of a strong base that has an equal number of hydroxide ions, a neutral solution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819520"/>
            <a:ext cx="6781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(aq) + NaOH(aq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Cl(aq)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00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n which a neutral solution is produced when an acid and base combine to produce a salt and water is called neutra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43434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as to be in the exact mole ratios of a BALANCED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cids and bases react, they generally will form a salt an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752480"/>
            <a:ext cx="739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 table salt but that’s not all:  KCl,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8954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+       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    +    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2004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nium ion               Hydroxide ion                 water                        wa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133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alts are compounds consisting of an anion from and acid and a cation from 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3505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ration: process of adding a known concentration to determine the concentration of another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ids and based do not always react in a 1:1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648320"/>
            <a:ext cx="76197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4(aq)  +      2NaOH(aq)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q)       +     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502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mol Sul Acid          2 mol Sod Hydroxide      1 mol Sod Sulph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mo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 when we get to the point where the acid and base mixture has equal mols of hyrdogen ions and hydroxide ions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c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k back to titration.  The solution which has the known concentration is called the standard solu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19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itration (adding the standard solution to the other solution to determine its concentration) continues until the indicator says “We have a winner!”…neutr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40384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e point at which the indicator turns color is called the end point.  (see page 615 Figure 19.2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1:53:29Z</dcterms:created>
  <dc:creator>Farwell Area Schools</dc:creator>
  <dc:description/>
  <dc:language>en-US</dc:language>
  <cp:lastModifiedBy>Farwell Area Schools</cp:lastModifiedBy>
  <dcterms:modified xsi:type="dcterms:W3CDTF">2009-02-16T14:07:28Z</dcterms:modified>
  <cp:revision>2</cp:revision>
  <dc:subject/>
  <dc:title>Note Guide 10-4   Neutralization Reactions</dc:title>
</cp:coreProperties>
</file>